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0C9-6265-46B4-BEB1-CBA43D2C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9D4-C1FF-4408-BDDF-2248F34F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0E8-51FC-4B5B-88FC-7F27284C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5E0-831E-4BAF-A163-9D3F2615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BBDE-FDB0-40F9-A1DE-9490DBA9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5BF5-0C55-4D31-80DA-C8DA6A3E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309D-2AAB-41FD-AD32-67CBF049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7952-AD21-47A6-975E-20C51A6A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EDF5-3D6B-42A4-AE26-7C506F85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117F-C22B-4418-BF70-CBEB6760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EC98-EA3B-4840-8DCE-7998177D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DFA-B963-41F0-8CCB-9420B3CF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00FF-7850-4083-861E-73C243B7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B1FF-B1D0-4A98-9962-3F778FD0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61AA-8F43-4C53-86B1-0020114B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CCCA-1A32-40DD-8A7A-96366338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BC0F-E6BB-4D08-9084-04528560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2A1-1929-4C1A-A50F-E32CA1BE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53B-04B6-4C78-8269-402FDEE1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C1B-E9E6-4045-A4A4-975C3929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CBF-40AB-49EB-B400-96BC4A8D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C0B-3821-4816-B22E-629EA435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1F8-C1AB-42D9-A8A5-44575ADE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624-4200-4653-8903-83FB85A8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ED41-B920-4EEA-9101-C92F1ED166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AEFC-D49A-44AD-B6C4-B2067C0FA1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6.xml"/><Relationship Id="rId6" Type="http://schemas.openxmlformats.org/officeDocument/2006/relationships/slide" Target="slide14.xml"/><Relationship Id="rId7" Type="http://schemas.openxmlformats.org/officeDocument/2006/relationships/slide" Target="slide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rtcuts and Hotke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28800" y="1066680"/>
          <a:ext cx="5257800" cy="482580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Apple – 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Apple – 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Apple – 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Apple – 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Apple – 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Apple – V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Apple – Z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Apple – 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- 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W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T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Ta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ing the Apple key and pressing tab moves between wind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152520" cy="19623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tically saves what you are working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3039840" cy="17478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specific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2914560" cy="291456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word and allows you to replace it with an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5105520" cy="303876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V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tes text or a file to another 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071800" cy="3436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ld fac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76720" y="2666880"/>
            <a:ext cx="2786040" cy="30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ies text or a file to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887920" cy="271296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3878280" cy="33112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new file in the program you are u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809880" cy="30700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file when in a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668320" cy="346860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 your words in ital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790720" cy="28195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s all text or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890800" cy="291168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o – takes back the last action you typed (usuall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273708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ts a file or text and places it on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438640" cy="237168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lin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262400" cy="39830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o – if you hit undo by mistake, this will bring it 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ses a wind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436840" cy="271008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3:07:53Z</dcterms:created>
  <dc:creator>OIT</dc:creator>
  <dc:description/>
  <dc:language>en-US</dc:language>
  <cp:lastModifiedBy>OIT</cp:lastModifiedBy>
  <dcterms:modified xsi:type="dcterms:W3CDTF">2007-01-25T23:09:29Z</dcterms:modified>
  <cp:revision>6</cp:revision>
  <dc:subject/>
  <dc:title>Shortcuts and Hotkeys</dc:title>
</cp:coreProperties>
</file>